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10B1-4383-45CD-86D6-6A1AA67F7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7F0A-29CC-48D1-ADAA-C7F606708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B0F3-1C3A-48F0-A380-64436A0D6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FF11-7807-44C2-8FE7-DB8809CFA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0C28F-3EAE-4FC1-ACC4-304CA3CCB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EE96C-ED13-49C9-A0EA-91F0BECB7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D2313-2C35-40CB-8192-1054531AD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6CDC6-F0FB-4B36-89A5-028792774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980E6-A07A-455F-BE5F-8E4999D68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C633D-F861-4FA5-98B2-BB08F52A4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07E8F-3377-4E70-A816-5FD4F11BC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60D7-0C28-43EF-BEA5-DAE8243DA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91A85-0C36-4FD9-AF1F-B02CEF2F8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E6C51-43A4-4AFD-B21A-06D1C59B8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B1C86-93DA-42E7-803B-E2D924A79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C3506-C1ED-414C-BB1F-9273B6D3A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03957-C127-474A-8D1E-B61F74236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D288-BEB9-4815-BE56-436C9D8A1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4146-B9C9-4A79-A787-998D10DB0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B4D1-A2DC-4EC1-A8E3-BEF9BCB84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863E-9EAF-4248-AE97-4D7B5741B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C0EA-E535-4BAE-84AE-110570844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7136-740C-4743-AB8A-3538A6AD2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B298-7185-4680-A55C-A32D76F24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5950B-DB4C-4449-BD55-DB8EED68337C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8E2C3-9F30-40C8-B634-A6520E155D47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3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장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공동 협력의 개념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Collaboration)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이란 교사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아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가족이 문제 해결을 위하여 자신들이 지닌 자원과 강점을 공유하는 역동적인 과정이다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과 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과는 차이가 있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이란 한 사람의 전문가가 문제해결을 도와주는 과정이므로 동등한 입장이 아니지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은 참여자 모두가 동등한 자격으로 의무를 공유하고 의사결정을 함께 내리는 것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은 결혼의 조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신랑과 신부의 관계 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부모와 교사의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협력 증진 방안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학교활동에 부모참여를 촉진하는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회의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특수교사와 일반교사의 공동 협력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일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특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의사소통 전략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의 예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실관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사 인터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학급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차이점 해결방안 모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결론 및 논의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협력의 필요성 인식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 협력이 되지 않는 이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해결 방안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f</cp:lastModifiedBy>
  <dcterms:modified xsi:type="dcterms:W3CDTF">2007-03-28T05:38:25Z</dcterms:modified>
  <cp:revision>14</cp:revision>
  <dc:subject/>
  <dc:title>농아동의 수학교과교육</dc:title>
</cp:coreProperties>
</file>